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F01F-575D-4235-A3A0-C85D99C0DD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356-7FF4-4CF6-82C9-DBB6DEA736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403596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240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96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264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96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264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5640" y="981000"/>
            <a:ext cx="7772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240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5280" y="403596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240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96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2640" y="162864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528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96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2640" y="4035960"/>
            <a:ext cx="271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981000"/>
            <a:ext cx="7772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2400" y="403596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628640"/>
            <a:ext cx="4111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4035960"/>
            <a:ext cx="8424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5219640" y="655308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99"/>
                </a:solidFill>
                <a:latin typeface="Arial"/>
              </a:rPr>
              <a:t>+39 02-48578.1 – Via A.Salaino, 7 – 20144 Mil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0" y="6519960"/>
            <a:ext cx="25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99"/>
                </a:solidFill>
                <a:latin typeface="Arial"/>
              </a:rPr>
              <a:t>Media Consultants – www.mcs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S:\Documenti\Service\Progetti\AdReport\Logo\logo.jpg"/>
          <p:cNvPicPr/>
          <p:nvPr/>
        </p:nvPicPr>
        <p:blipFill>
          <a:blip r:embed="rId3"/>
          <a:stretch/>
        </p:blipFill>
        <p:spPr>
          <a:xfrm>
            <a:off x="7399440" y="165240"/>
            <a:ext cx="170964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108000" y="44280"/>
            <a:ext cx="2448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8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0" t="11310" r="0" b="0"/>
          <a:stretch/>
        </p:blipFill>
        <p:spPr>
          <a:xfrm>
            <a:off x="149400" y="1709640"/>
            <a:ext cx="8883360" cy="4023000"/>
          </a:xfrm>
          <a:prstGeom prst="rect">
            <a:avLst/>
          </a:prstGeom>
          <a:ln w="0">
            <a:noFill/>
          </a:ln>
        </p:spPr>
      </p:pic>
      <p:sp>
        <p:nvSpPr>
          <p:cNvPr id="89" name="Title 6"/>
          <p:cNvSpPr/>
          <p:nvPr/>
        </p:nvSpPr>
        <p:spPr>
          <a:xfrm>
            <a:off x="2268360" y="25560"/>
            <a:ext cx="511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Valeria Del Vic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Direttore Comunicazione e 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itle 6"/>
          <p:cNvSpPr/>
          <p:nvPr/>
        </p:nvSpPr>
        <p:spPr>
          <a:xfrm>
            <a:off x="1076400" y="1052640"/>
            <a:ext cx="699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Proposta per Associate F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5:19:27Z</dcterms:created>
  <dc:creator>R Rotta-Gentile</dc:creator>
  <dc:description/>
  <dc:language>en-US</dc:language>
  <cp:lastModifiedBy>Luca Franzoni</cp:lastModifiedBy>
  <cp:lastPrinted>2004-02-04T17:08:46Z</cp:lastPrinted>
  <dcterms:modified xsi:type="dcterms:W3CDTF">2015-12-22T11:40:17Z</dcterms:modified>
  <cp:revision>549</cp:revision>
  <dc:subject>MediaBox</dc:subject>
  <dc:title>MediaBox</dc:title>
</cp:coreProperties>
</file>